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DACD8-4656-4488-85B4-D42E028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1579-7CBC-4441-9590-970E8DA3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B0DD-B857-4F00-AD31-2DDDB96E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17523-0690-4F79-A569-0AD339A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7C149-29CC-4BB7-9B70-8F4FF80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626B-C5CB-42A6-A8D2-E4FE910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750E-AAE7-4800-B9E7-677A4682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F426D-B8E9-4712-850C-FF7CAC34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4052F-B8BA-4510-B932-4C9A31EA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0D1B9-970C-4073-B60E-801D762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A2E4D-56DA-47D4-A849-D28122A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807CE-B808-41BD-86B0-DA859D52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F0384-8D3F-482E-933F-EA12F5F4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133A7-EE6B-4240-B701-E720DDB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45414-5D31-4075-AB7C-41F56C5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8F518-D7C7-4663-82BA-07B187C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FF6F9-8045-4868-BCC7-DB513ED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EBE05-6177-4558-A2EA-9FE67EB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5D9-8DC6-40A4-909D-8C31428B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A09B3-DAFF-4D8A-84DB-27D8AD4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1B9F6-ABB3-4659-B13B-F1F1B4F2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A38B6-CA97-4653-922C-83AEBA17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2FF15-97A5-4F74-9111-ED88105B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5ECC9-95D3-4FA5-90B8-3A672C0D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85957-BFF5-4F1A-B862-A238A2E4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F6F83-5746-4A05-B9B0-343D195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AEF0B-0DC9-4832-A751-C1CD50E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EDCB1-D084-48BE-B681-C4BFAE0A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1CA7-4D25-4838-8009-549FEC56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D21-CD7B-4855-8DF1-91EFDFA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AEFD7-3D8B-450F-B4C3-FDE33C8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B63E6-961F-40C3-B833-A670285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927FF-B4BB-4C6C-9ED7-2E7A8C16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67AC1-A6B1-44D4-8689-7F28A0CF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A182-03FE-4E83-A69A-ED3E7917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4F7A7-29D4-4726-846A-381C6D66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2BCFF-C169-49D8-BF54-F16F4A6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59D84-C8D9-43E3-A361-E8F9EEE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3D7B4-A60A-4203-92E9-7E041DED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C709F-22EE-49A6-939C-226667D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F9A-503A-447F-86FC-454B38E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5BE8F-C538-466C-9FFF-4F80A787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794EA-2707-4480-AD7B-8A7A580C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72626-1A3C-4560-887C-5543DCF2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C8ADF-79C8-4491-8C0D-D461BEC8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8746-5778-4371-AD92-20B2C7B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90D77-4709-481B-B876-91D891E3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4A13F-8B81-4B25-A2A8-11135268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9CC-7D73-43AE-AFD0-9F0D7EA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AB1-612A-43D5-B41D-F070E17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E5A-6E30-4B0D-AD3B-5697210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32E-83B5-4DA0-850A-C8DCD6F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0FB-B52F-4658-80E9-94F9F30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742-2F13-4CFB-BB5B-AE144AF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940-C023-4B3D-90E6-A79C742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86F-D89C-42CE-8655-DE02614B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7CB-E5F7-456C-AA85-974F7AAD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F171-20B6-45B9-ABF4-29CFD2B1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BAE7-8BAC-4208-84B5-6DC084A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212A-4284-4A27-8531-4312F87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907D-CCFD-4708-95B6-0DA1DA75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33F-8A35-4DEB-8BEF-4B86783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A553-ACC2-428F-82E6-2865AA01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8916-F55B-46BF-A75B-5D7904F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0777-D10E-48A6-94C2-DE66209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320E-F075-4801-BF94-68A1917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E5B8-859F-4908-88E3-3920061F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F783-3D7E-49E9-A92D-AE71210E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447-56FC-4F0F-AEA5-6157EB05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3D38-7E19-49F9-B83D-017B7481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A499-FBA0-4C7E-86CE-7317C47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64FD-1058-4148-9556-2A9A3EB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B773-4019-4977-B0F3-01A2AA1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A3CF-2D20-4BE0-8BE4-1A6840A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C22F-63DA-41A8-BC6B-0133AF95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E9BD-50E1-42D0-BFA6-18B61111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BAAC-444C-4769-A4A6-90C77B5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F821-24FF-435E-8513-D91FE08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6C24-FE6A-47D0-8390-41CF2E24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CA2A-1557-46EE-B544-633BED7C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BADE-9520-4097-B590-7FB677E3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5155-CAD2-4EBA-9299-140344D5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0FDB-CC3E-4F94-91D7-6A5437B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6E96-1B8E-4BB0-B30E-74EC33A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FF3C-BF3E-497B-B593-4DF3374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FF20-9436-411B-A4AB-917DC1A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7AE0-5EA9-4106-8506-8C8F8B87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183F-55E6-4418-BE21-AB1E5FE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7792-B3AB-4B61-A2D1-BF2300B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FB8F-DF42-4F58-BE06-B2AEEEF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4C6E-417A-40B4-AE0C-991D8B01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32D3-03EA-46ED-AACD-191051AF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A4AF-E57B-4DF2-96E3-11B778BC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BC34-3C81-40A5-A0E9-065512F5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CC6A-5C0B-4D85-B590-37C33DB2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66321-CACF-4E0A-AE42-F3F7CF0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581D-E8EA-4402-B324-6957712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3168C-21BE-49D2-B13A-6E4BBD8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7BF6-802A-4DB4-8A0C-FF932B4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C774F-1007-43FF-BABD-C514058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9CD5-7A81-4ADB-88D6-167B984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AB07-E850-42D5-8F7D-660BEC4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B47BD-A5F8-47B5-9F5B-1D364C4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4E52-13FD-4A9E-ACC8-A0EE6200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0436-4A04-4D49-835F-C28D8C0E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BF76-7850-4A09-9DDC-8246DA22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8FBE-A639-48D9-87C3-7588420D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E732-F4B4-49F7-89A9-828B1AE6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5032-7729-41F8-B8A5-105CCABE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7E315-EB75-40D5-9BC7-5854F31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3220-92AE-4E21-8448-A4CA4C5E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751B-0C7E-4F9E-B3E3-536F3B0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7748-F68D-44BA-847C-6172E07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EBB0D-654D-4BA8-BFE2-CA9B5ADC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47547-30D8-4EA6-AC37-F4E39292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D376-7AA3-4910-BB5F-EB5E6F9B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1D4B-F8B0-4C81-962C-5760A5BE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077C7-6B32-4697-A01F-C8ED75FB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212C-72B7-4568-A06E-8712DC65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0640-FC42-45A3-B821-3AF9D9C8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BDEC-19B0-41A6-91D7-DBAE1B13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C10C-7D20-45D7-B2A3-DCD10D4C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8498-1E17-4219-AF8E-341ABBEF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7782-6AAA-4924-B02E-6AE2765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1D796-A5FB-4E42-8E09-281C9F5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E010-400D-4519-B546-B0182FA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CB69-9C04-4E36-ADB9-6F9B968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CB04F-3C4A-4A07-8C48-4F2A7772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D096-A377-461D-8823-6756A3DD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DBF0-60A3-439B-95F3-6DCA63BB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2795-73CB-4973-AB19-C49F1D9A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28C5-F09C-41B2-81F3-580D9FD5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Imagen" descr="GRadne.jpg"/>
          <p:cNvPicPr/>
          <p:nvPr/>
        </p:nvPicPr>
        <p:blipFill>
          <a:blip r:embed="rId2"/>
          <a:stretch/>
        </p:blipFill>
        <p:spPr>
          <a:xfrm>
            <a:off x="0" y="0"/>
            <a:ext cx="6429240" cy="1143000"/>
          </a:xfrm>
          <a:prstGeom prst="rect">
            <a:avLst/>
          </a:prstGeom>
          <a:ln w="0">
            <a:noFill/>
          </a:ln>
        </p:spPr>
      </p:pic>
      <p:sp>
        <p:nvSpPr>
          <p:cNvPr id="351" name="2 Rectángulo"/>
          <p:cNvSpPr/>
          <p:nvPr/>
        </p:nvSpPr>
        <p:spPr>
          <a:xfrm>
            <a:off x="0" y="1143000"/>
            <a:ext cx="2357280" cy="571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3 Rectángulo redondeado"/>
          <p:cNvSpPr/>
          <p:nvPr/>
        </p:nvSpPr>
        <p:spPr>
          <a:xfrm>
            <a:off x="357120" y="364320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Element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4 Rectángulo redondeado">
            <a:hlinkClick r:id="rId3" action="ppaction://hlinksldjump"/>
          </p:cNvPr>
          <p:cNvSpPr/>
          <p:nvPr/>
        </p:nvSpPr>
        <p:spPr>
          <a:xfrm>
            <a:off x="357120" y="471492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Factores de conting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5 Rectángulo redondeado"/>
          <p:cNvSpPr/>
          <p:nvPr/>
        </p:nvSpPr>
        <p:spPr>
          <a:xfrm>
            <a:off x="357120" y="578628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Configur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organiz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6 Rectángulo redondeado">
            <a:hlinkClick r:id="rId4" action="ppaction://hlinksldjump"/>
          </p:cNvPr>
          <p:cNvSpPr/>
          <p:nvPr/>
        </p:nvSpPr>
        <p:spPr>
          <a:xfrm>
            <a:off x="357120" y="150012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7 Rectángulo redondeado">
            <a:hlinkClick r:id="rId5" action="ppaction://hlinksldjump"/>
          </p:cNvPr>
          <p:cNvSpPr/>
          <p:nvPr/>
        </p:nvSpPr>
        <p:spPr>
          <a:xfrm>
            <a:off x="357120" y="2571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8 Rectángulo" descr=""/>
          <p:cNvPicPr/>
          <p:nvPr/>
        </p:nvPicPr>
        <p:blipFill>
          <a:blip r:embed="rId6"/>
          <a:stretch/>
        </p:blipFill>
        <p:spPr>
          <a:xfrm>
            <a:off x="4059360" y="6407280"/>
            <a:ext cx="3457440" cy="334800"/>
          </a:xfrm>
          <a:prstGeom prst="rect">
            <a:avLst/>
          </a:prstGeom>
          <a:ln w="0">
            <a:noFill/>
          </a:ln>
        </p:spPr>
      </p:pic>
      <p:pic>
        <p:nvPicPr>
          <p:cNvPr id="358" name="9 Rectángulo" descr=""/>
          <p:cNvPicPr/>
          <p:nvPr/>
        </p:nvPicPr>
        <p:blipFill>
          <a:blip r:embed="rId7"/>
          <a:stretch/>
        </p:blipFill>
        <p:spPr>
          <a:xfrm>
            <a:off x="6566040" y="122400"/>
            <a:ext cx="2797200" cy="334800"/>
          </a:xfrm>
          <a:prstGeom prst="rect">
            <a:avLst/>
          </a:prstGeom>
          <a:ln w="0">
            <a:noFill/>
          </a:ln>
        </p:spPr>
      </p:pic>
      <p:pic>
        <p:nvPicPr>
          <p:cNvPr id="359" name="10 Rectángulo" descr=""/>
          <p:cNvPicPr/>
          <p:nvPr/>
        </p:nvPicPr>
        <p:blipFill>
          <a:blip r:embed="rId8"/>
          <a:stretch/>
        </p:blipFill>
        <p:spPr>
          <a:xfrm>
            <a:off x="6566040" y="480960"/>
            <a:ext cx="2869920" cy="336600"/>
          </a:xfrm>
          <a:prstGeom prst="rect">
            <a:avLst/>
          </a:prstGeom>
          <a:ln w="0">
            <a:noFill/>
          </a:ln>
        </p:spPr>
      </p:pic>
      <p:pic>
        <p:nvPicPr>
          <p:cNvPr id="360" name="11 Imagen" descr="20081124094235icono20inicio.jpg"/>
          <p:cNvPicPr/>
          <p:nvPr/>
        </p:nvPicPr>
        <p:blipFill>
          <a:blip r:embed="rId9"/>
          <a:stretch/>
        </p:blipFill>
        <p:spPr>
          <a:xfrm>
            <a:off x="8572680" y="6072120"/>
            <a:ext cx="452160" cy="452520"/>
          </a:xfrm>
          <a:prstGeom prst="rect">
            <a:avLst/>
          </a:prstGeom>
          <a:ln w="0">
            <a:noFill/>
          </a:ln>
        </p:spPr>
      </p:pic>
      <p:pic>
        <p:nvPicPr>
          <p:cNvPr id="361" name="12 Rectángulo" descr=""/>
          <p:cNvPicPr/>
          <p:nvPr/>
        </p:nvPicPr>
        <p:blipFill>
          <a:blip r:embed="rId10"/>
          <a:stretch/>
        </p:blipFill>
        <p:spPr>
          <a:xfrm>
            <a:off x="8564400" y="6492960"/>
            <a:ext cx="470160" cy="231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B739-8A96-45ED-8AAC-8FE7E15CEB2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3F6D-E5F2-42EA-9E4C-01B63403B736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2CB1-EBC5-4BA5-B40A-7689ABAB259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03C-BD58-4829-877E-22AF3414A5E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C4A-30BC-4E89-9171-BE2760E73584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322-05DB-49AF-91F4-358D70AAB014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8DF-BD7C-4538-8319-900C028A812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06DC-E7A8-4197-AAD0-5B6C80A984A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EAB-456B-4A96-9755-8E0D23E9CF8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F1B3-F113-4422-916C-760AFE67277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EAC9-10B7-4CE9-8A7B-39A6195859E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6 Imagen" descr="20080805214103183_1.jpg"/>
          <p:cNvPicPr/>
          <p:nvPr/>
        </p:nvPicPr>
        <p:blipFill>
          <a:blip r:embed="rId1"/>
          <a:stretch/>
        </p:blipFill>
        <p:spPr>
          <a:xfrm>
            <a:off x="4857840" y="3000240"/>
            <a:ext cx="3389400" cy="2535480"/>
          </a:xfrm>
          <a:prstGeom prst="rect">
            <a:avLst/>
          </a:prstGeom>
          <a:ln w="0">
            <a:noFill/>
          </a:ln>
        </p:spPr>
      </p:pic>
      <p:pic>
        <p:nvPicPr>
          <p:cNvPr id="518" name="7 Imagen" descr="DeloitteTopGreen15Award_large.jpg"/>
          <p:cNvPicPr/>
          <p:nvPr/>
        </p:nvPicPr>
        <p:blipFill>
          <a:blip r:embed="rId2"/>
          <a:stretch/>
        </p:blipFill>
        <p:spPr>
          <a:xfrm>
            <a:off x="2500200" y="3786120"/>
            <a:ext cx="2857680" cy="2382840"/>
          </a:xfrm>
          <a:prstGeom prst="rect">
            <a:avLst/>
          </a:prstGeom>
          <a:ln w="0">
            <a:noFill/>
          </a:ln>
        </p:spPr>
      </p:pic>
      <p:pic>
        <p:nvPicPr>
          <p:cNvPr id="519" name="8 Imagen" descr="Trabajadores_oficinas_ocupa_Deloitte_Torre_Picasso.jpg"/>
          <p:cNvPicPr/>
          <p:nvPr/>
        </p:nvPicPr>
        <p:blipFill>
          <a:blip r:embed="rId3"/>
          <a:stretch/>
        </p:blipFill>
        <p:spPr>
          <a:xfrm>
            <a:off x="6929280" y="1857240"/>
            <a:ext cx="2071800" cy="1816200"/>
          </a:xfrm>
          <a:prstGeom prst="rect">
            <a:avLst/>
          </a:prstGeom>
          <a:ln w="0">
            <a:noFill/>
          </a:ln>
        </p:spPr>
      </p:pic>
      <p:pic>
        <p:nvPicPr>
          <p:cNvPr id="520" name="9 Imagen" descr="Deloitte-Australia.jpg"/>
          <p:cNvPicPr/>
          <p:nvPr/>
        </p:nvPicPr>
        <p:blipFill>
          <a:blip r:embed="rId4"/>
          <a:stretch/>
        </p:blipFill>
        <p:spPr>
          <a:xfrm>
            <a:off x="2500200" y="1357200"/>
            <a:ext cx="30704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Rectángulo" descr=""/>
          <p:cNvPicPr/>
          <p:nvPr/>
        </p:nvPicPr>
        <p:blipFill>
          <a:blip r:embed="rId1"/>
          <a:stretch/>
        </p:blipFill>
        <p:spPr>
          <a:xfrm>
            <a:off x="4108320" y="1646280"/>
            <a:ext cx="2438640" cy="536400"/>
          </a:xfrm>
          <a:prstGeom prst="rect">
            <a:avLst/>
          </a:prstGeom>
          <a:ln w="0">
            <a:noFill/>
          </a:ln>
        </p:spPr>
      </p:pic>
      <p:sp>
        <p:nvSpPr>
          <p:cNvPr id="522" name="2 CuadroTexto"/>
          <p:cNvSpPr/>
          <p:nvPr/>
        </p:nvSpPr>
        <p:spPr>
          <a:xfrm>
            <a:off x="2643120" y="2395440"/>
            <a:ext cx="6215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Deloitte define sus actividades en el registro mercantil de la siguiente manera: Realizar toda clase de </a:t>
            </a:r>
            <a:r>
              <a:rPr b="1" lang="es-ES" sz="1400" spc="-1" strike="noStrike">
                <a:solidFill>
                  <a:srgbClr val="92e852"/>
                </a:solidFill>
                <a:latin typeface="Calibri"/>
              </a:rPr>
              <a:t>auditorias</a:t>
            </a: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, totales o parciales de cuentas económicas financieras, informáticas, de transacciones y saldos en Internet, de gestión y operativas, en el ámbito nacional  e internacion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De su actividad extraemos que sus dos actividades principales son la auditoria de cuentas y la consultaría de empresas en distintos ámbitos. Deloitte pertenece a las llamadas Big four que son las 4 multinacionales de servicios profesionales más importantes del mundo este grupo está formado por Ernst &amp; young, Pricewaterhousecoopers, KPMG y Deloitt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Se las conoce de esta manera por el gran poder que ostentan entre las 4, ya que son ellas las que se reparten prácticamente todo el pastel de los servicios profesiona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Rectángulo" descr=""/>
          <p:cNvPicPr/>
          <p:nvPr/>
        </p:nvPicPr>
        <p:blipFill>
          <a:blip r:embed="rId1"/>
          <a:stretch/>
        </p:blipFill>
        <p:spPr>
          <a:xfrm>
            <a:off x="3828960" y="1712880"/>
            <a:ext cx="3310200" cy="542880"/>
          </a:xfrm>
          <a:prstGeom prst="rect">
            <a:avLst/>
          </a:prstGeom>
          <a:ln w="0">
            <a:noFill/>
          </a:ln>
        </p:spPr>
      </p:pic>
      <p:sp>
        <p:nvSpPr>
          <p:cNvPr id="524" name="3 CuadroTexto"/>
          <p:cNvSpPr/>
          <p:nvPr/>
        </p:nvSpPr>
        <p:spPr>
          <a:xfrm>
            <a:off x="3000240" y="241632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HIS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4 CuadroTexto"/>
          <p:cNvSpPr/>
          <p:nvPr/>
        </p:nvSpPr>
        <p:spPr>
          <a:xfrm>
            <a:off x="3000240" y="30592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5 CuadroTexto"/>
          <p:cNvSpPr/>
          <p:nvPr/>
        </p:nvSpPr>
        <p:spPr>
          <a:xfrm>
            <a:off x="3000240" y="37018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LOGOTIPO E IDENTIDAD CORPOR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6 CuadroTexto"/>
          <p:cNvSpPr/>
          <p:nvPr/>
        </p:nvSpPr>
        <p:spPr>
          <a:xfrm>
            <a:off x="3000240" y="44164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MISIÓN Y VISIÓN DE LA EMPR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7 CuadroTexto"/>
          <p:cNvSpPr/>
          <p:nvPr/>
        </p:nvSpPr>
        <p:spPr>
          <a:xfrm>
            <a:off x="3000240" y="513072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DELOITTE EN EL MU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1 Rectángulo" descr=""/>
          <p:cNvPicPr/>
          <p:nvPr/>
        </p:nvPicPr>
        <p:blipFill>
          <a:blip r:embed="rId1"/>
          <a:stretch/>
        </p:blipFill>
        <p:spPr>
          <a:xfrm>
            <a:off x="4675320" y="1432080"/>
            <a:ext cx="1633320" cy="536400"/>
          </a:xfrm>
          <a:prstGeom prst="rect">
            <a:avLst/>
          </a:prstGeom>
          <a:ln w="0">
            <a:noFill/>
          </a:ln>
        </p:spPr>
      </p:pic>
      <p:sp>
        <p:nvSpPr>
          <p:cNvPr id="530" name="6 Rectángulo"/>
          <p:cNvSpPr/>
          <p:nvPr/>
        </p:nvSpPr>
        <p:spPr>
          <a:xfrm>
            <a:off x="2857680" y="3857760"/>
            <a:ext cx="5929200" cy="7128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7 Rectángulo"/>
          <p:cNvSpPr/>
          <p:nvPr/>
        </p:nvSpPr>
        <p:spPr>
          <a:xfrm>
            <a:off x="278604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9 Rectángulo" descr=""/>
          <p:cNvPicPr/>
          <p:nvPr/>
        </p:nvPicPr>
        <p:blipFill>
          <a:blip r:embed="rId2"/>
          <a:stretch/>
        </p:blipFill>
        <p:spPr>
          <a:xfrm>
            <a:off x="2548080" y="4121280"/>
            <a:ext cx="628560" cy="334800"/>
          </a:xfrm>
          <a:prstGeom prst="rect">
            <a:avLst/>
          </a:prstGeom>
          <a:ln w="0">
            <a:noFill/>
          </a:ln>
        </p:spPr>
      </p:pic>
      <p:sp>
        <p:nvSpPr>
          <p:cNvPr id="533" name="11 Rectángulo"/>
          <p:cNvSpPr/>
          <p:nvPr/>
        </p:nvSpPr>
        <p:spPr>
          <a:xfrm>
            <a:off x="421488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13 Rectángulo" descr=""/>
          <p:cNvPicPr/>
          <p:nvPr/>
        </p:nvPicPr>
        <p:blipFill>
          <a:blip r:embed="rId3"/>
          <a:stretch/>
        </p:blipFill>
        <p:spPr>
          <a:xfrm>
            <a:off x="4475160" y="4121280"/>
            <a:ext cx="627120" cy="334800"/>
          </a:xfrm>
          <a:prstGeom prst="rect">
            <a:avLst/>
          </a:prstGeom>
          <a:ln w="0">
            <a:noFill/>
          </a:ln>
        </p:spPr>
      </p:pic>
      <p:sp>
        <p:nvSpPr>
          <p:cNvPr id="535" name="14 Pergamino horizontal"/>
          <p:cNvSpPr/>
          <p:nvPr/>
        </p:nvSpPr>
        <p:spPr>
          <a:xfrm>
            <a:off x="2428920" y="4357800"/>
            <a:ext cx="114300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Primera oficin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15 Pergamino horizontal"/>
          <p:cNvSpPr/>
          <p:nvPr/>
        </p:nvSpPr>
        <p:spPr>
          <a:xfrm>
            <a:off x="4143240" y="4286160"/>
            <a:ext cx="121464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Colaboración hanskin &amp; sell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16 Rectángulo" descr=""/>
          <p:cNvPicPr/>
          <p:nvPr/>
        </p:nvPicPr>
        <p:blipFill>
          <a:blip r:embed="rId4"/>
          <a:stretch/>
        </p:blipFill>
        <p:spPr>
          <a:xfrm>
            <a:off x="4048200" y="3333600"/>
            <a:ext cx="627120" cy="336600"/>
          </a:xfrm>
          <a:prstGeom prst="rect">
            <a:avLst/>
          </a:prstGeom>
          <a:ln w="0">
            <a:noFill/>
          </a:ln>
        </p:spPr>
      </p:pic>
      <p:sp>
        <p:nvSpPr>
          <p:cNvPr id="538" name="17 Rectángulo"/>
          <p:cNvSpPr/>
          <p:nvPr/>
        </p:nvSpPr>
        <p:spPr>
          <a:xfrm>
            <a:off x="478620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18 Pergamino horizontal"/>
          <p:cNvSpPr/>
          <p:nvPr/>
        </p:nvSpPr>
        <p:spPr>
          <a:xfrm>
            <a:off x="3786120" y="2500200"/>
            <a:ext cx="114300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Touche crea oficina de contabilid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20 Rectángulo"/>
          <p:cNvSpPr/>
          <p:nvPr/>
        </p:nvSpPr>
        <p:spPr>
          <a:xfrm>
            <a:off x="621504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21 Rectángulo"/>
          <p:cNvSpPr/>
          <p:nvPr/>
        </p:nvSpPr>
        <p:spPr>
          <a:xfrm>
            <a:off x="764388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22 Rectángulo" descr=""/>
          <p:cNvPicPr/>
          <p:nvPr/>
        </p:nvPicPr>
        <p:blipFill>
          <a:blip r:embed="rId5"/>
          <a:stretch/>
        </p:blipFill>
        <p:spPr>
          <a:xfrm>
            <a:off x="7407360" y="4121280"/>
            <a:ext cx="627120" cy="334800"/>
          </a:xfrm>
          <a:prstGeom prst="rect">
            <a:avLst/>
          </a:prstGeom>
          <a:ln w="0">
            <a:noFill/>
          </a:ln>
        </p:spPr>
      </p:pic>
      <p:pic>
        <p:nvPicPr>
          <p:cNvPr id="543" name="23 Rectángulo" descr=""/>
          <p:cNvPicPr/>
          <p:nvPr/>
        </p:nvPicPr>
        <p:blipFill>
          <a:blip r:embed="rId6"/>
          <a:stretch/>
        </p:blipFill>
        <p:spPr>
          <a:xfrm>
            <a:off x="5973840" y="3333600"/>
            <a:ext cx="628560" cy="336600"/>
          </a:xfrm>
          <a:prstGeom prst="rect">
            <a:avLst/>
          </a:prstGeom>
          <a:ln w="0">
            <a:noFill/>
          </a:ln>
        </p:spPr>
      </p:pic>
      <p:sp>
        <p:nvSpPr>
          <p:cNvPr id="544" name="24 Pergamino horizontal"/>
          <p:cNvSpPr/>
          <p:nvPr/>
        </p:nvSpPr>
        <p:spPr>
          <a:xfrm>
            <a:off x="5715000" y="2500200"/>
            <a:ext cx="121428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Fusión Deloitte &amp; Tou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25 Pergamino horizontal"/>
          <p:cNvSpPr/>
          <p:nvPr/>
        </p:nvSpPr>
        <p:spPr>
          <a:xfrm>
            <a:off x="7143840" y="4357800"/>
            <a:ext cx="121428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Andersen se integra en Deloit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59:04Z</dcterms:created>
  <dc:creator>Santi</dc:creator>
  <dc:description/>
  <dc:language>en-US</dc:language>
  <cp:lastModifiedBy>Santi</cp:lastModifiedBy>
  <dcterms:modified xsi:type="dcterms:W3CDTF">2009-04-22T17:19:58Z</dcterms:modified>
  <cp:revision>51</cp:revision>
  <dc:subject/>
  <dc:title>Diapositiva 1</dc:title>
</cp:coreProperties>
</file>